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B24-4F67-44BD-86B9-4C6D5C20E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AD7-B82C-4358-BECB-D388F7EFC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9C80-A54B-43A0-86B7-BAB65A94F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776-E532-4B26-B951-3DCF4D39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03F-2299-4F37-88E0-77C826EB1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C96-DF81-4BE8-94C1-5415ACAA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A5F-7B7F-460E-9AAE-2C69762A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643-C01E-4DE4-82C9-8AA599CF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58A-FB36-4E9E-ADFA-BE9C3DF4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0EF8-E7FA-4357-923D-F5D178A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87F-4463-40FA-A6F2-8EDF728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34E-4545-4908-BFD7-C071639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3F72-ADE4-4A14-82D7-696A1CC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7AB9-78C7-48E9-A88F-0F84D572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975-98AB-4FF2-99AD-021B5C6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530-9956-4EF4-8268-591A7D1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665-4ECA-4E43-ACF0-B2D6D92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76DB-1DA2-4F08-A8E7-10B3CB7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FBDC-A418-43FB-A5B3-B5C0F10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85D0-59EE-4CB5-9557-1DCE834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E99D-FB98-4DDA-81DC-C8E18F5E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A5EC-AC17-48C2-B1E3-3DB4B5F5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A95F-7518-4B6B-A625-E51874D2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1680-42C8-4373-85D0-CF954F7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D93E-2068-4D0F-A0F0-2B54BA6F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9082-D2BC-471B-B5AB-972D6F85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0F6D7-E470-4588-AFD7-BB71FF01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583-5490-4075-93B3-560B4854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4004-80C3-4D8E-89DF-133EEAC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1C13-4979-4414-9E08-38026E37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2CB5-0DAD-4D31-BAC7-EB894CE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290DB-70D6-49F6-900E-81B8A04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52083-52E1-4ED5-A223-93ECBE8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C07E-1B98-4D64-BE97-C0ABD588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1709-EDAC-4162-A410-230ADD11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A12A-E77F-4010-BF35-A7907E55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503B-13F7-4677-93FD-79B49AB9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2356-E4DF-48D8-858B-1B8DBED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5B3-770C-4E5B-AC92-0EAFAD2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998A-53CE-4942-B06E-8EDAB84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C4187-0E23-458A-84C5-A89DA30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C188-1AB7-4144-AE16-47C60412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6816-F93F-4AB0-A585-C8B8518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399C-C1C4-4DFE-9DBC-BD7B7039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2C46-667B-4BDD-91A5-9947109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FFB8-925D-4CF3-9784-9F08EC7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F624-0E8A-4408-970D-C51B0E01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B071-09AB-4668-A7A2-09321877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54576-064E-482E-BDD1-54608B4D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0B7-364D-41B3-89A3-EDFA0D82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02D2-4C2C-4237-A99C-9A275AB7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7436-C122-4254-986C-72A44573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A9F5-4056-4C54-B2D4-D271DCC9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6162-A52E-4675-8D2B-494BBF3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871DC-2102-4DEE-9139-72728714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7512-AF66-4B83-83BC-A5DC556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D36F-FC28-4C23-81CD-22FEEFF3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EE0C-8C80-4FBC-B428-E119BAD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7295-6C04-478C-B2F3-7AE3BCA3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E97D-FF7F-42A9-A279-24F2F4D6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38B-6649-4CB2-B258-65B3EF4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65866-0899-4615-8CB1-F6BDC4D7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F3D-5C01-413E-BCDB-DE6FDE8A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839-26F1-45A6-8412-2839706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FAA-77F3-4A75-9D68-5FF5AFD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F26-2B8E-4701-9CD9-9CD861A4CB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850-70B7-42B2-8E7A-7225BE108B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CEC9-9DF0-4D58-B6A3-6FD9EBA798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B9F-3DBB-401B-AC74-0B3F89788E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9C1E-819C-4EC5-88CA-C40C27467A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bysoft.com/essays/userInterfaceDesign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r Interface Desig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133720" y="6172200"/>
            <a:ext cx="5410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ambysoft.com/essays/userInterfaceDesign.html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Tips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 consist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nav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 color sparing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ign fiel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llow for erro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uitive desig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void overcrow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oup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I Design Princip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ructure: the overall UI architec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icity: Make tasks easy to 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isibility: Keep all needed tasks visi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eedback: Keep the user inform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lerance: allow undoing and redo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\\thor\grads\mshouman\Desktop\Drawing1.jpg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0:11:14Z</dcterms:created>
  <dc:creator>mshouman</dc:creator>
  <dc:description/>
  <dc:language>en-US</dc:language>
  <cp:lastModifiedBy>mshouman</cp:lastModifiedBy>
  <dcterms:modified xsi:type="dcterms:W3CDTF">2009-04-06T20:20:36Z</dcterms:modified>
  <cp:revision>2</cp:revision>
  <dc:subject/>
  <dc:title>User Interface Design</dc:title>
</cp:coreProperties>
</file>